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4.png" ContentType="image/png"/>
  <Override PartName="/ppt/media/cashreg.wav" ContentType="audio/x-wav"/>
  <Override PartName="/ppt/media/image5.png" ContentType="image/png"/>
  <Override PartName="/ppt/media/whoosh.wav" ContentType="audio/x-wav"/>
  <Override PartName="/ppt/media/image6.png" ContentType="image/png"/>
  <Override PartName="/ppt/media/camera.wav" ContentType="audio/x-wav"/>
  <Override PartName="/ppt/media/chimes.wav" ContentType="audio/x-wav"/>
  <Override PartName="/ppt/media/image8.png" ContentType="image/png"/>
  <Override PartName="/ppt/media/image9.png" ContentType="image/png"/>
  <Override PartName="/ppt/media/drumroll.wav" ContentType="audio/x-wav"/>
  <Override PartName="/ppt/media/voltage.wav" ContentType="audio/x-wav"/>
  <Override PartName="/ppt/media/image1.png" ContentType="image/png"/>
  <Override PartName="/ppt/media/image2.png" ContentType="image/png"/>
  <Override PartName="/ppt/media/applause.wav" ContentType="audio/x-wav"/>
  <Override PartName="/ppt/media/breeze.wav" ContentType="audio/x-wav"/>
  <Override PartName="/ppt/media/image10.png" ContentType="image/png"/>
  <Override PartName="/ppt/media/image3.png" ContentType="image/png"/>
  <Override PartName="/ppt/media/click.wav" ContentType="audio/x-wav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79861-730D-407E-816C-78E06F28A0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D42-02DD-41A6-BF01-6F70B4B0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51C-6B6C-4A3F-9957-ECDBA91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6B1-EA55-4BF5-8A65-7CAFC777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ABD-2AF3-4589-8F9F-0A3A97F7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6356-DB8C-4C79-AB79-100F67DF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FDE9-039D-443E-901A-517C3250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9CAE-F04B-4F0B-9ACB-AD15A2BC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222A-CAE1-46B4-8029-1FF47176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AE66-48B1-48BC-BAD2-1DAED63F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0960" cy="89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315B-86A8-4190-839D-676DAE18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5A6D-9B8C-4E1B-947C-365ABD5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68A-637E-4D0C-A4FB-7F6F1FEF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6434-65D4-49F0-8C49-4EBD7EF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0044-57F8-4FFE-80D8-E9ADAB44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FA70-901D-44CA-AABB-6BD1B23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C017-48FF-480B-9A5C-4914B1C0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450-CFA0-41FE-B6DB-84C2BC8F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FB7-4610-482F-A14C-E56257D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BCF-69B0-43AE-B63A-2F1AFC28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239-D77C-4303-AE72-7D94D409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0960" cy="89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263-DA60-44E0-A332-C4BE71E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29A-00D1-491B-9B8A-09A4753F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FDD-7DB9-4C72-B207-A87C6DA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692-3CC7-4E3C-8450-2190661B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6280"/>
            <a:chOff x="1071720" y="304920"/>
            <a:chExt cx="761328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124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232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36FBF8-AF8A-4136-8059-B617108F1CD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CE09A-962F-48F6-8CEA-F2A35BC05C7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</a:rPr>
              <a:t>BODIL KE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</a:rPr>
              <a:t>CAROLINE BR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17144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Call of a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582640" cy="2583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41240" indent="-284040" algn="r">
              <a:lnSpc>
                <a:spcPct val="95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741240"/>
                <a:tab algn="l" pos="1655640"/>
                <a:tab algn="l" pos="2570040"/>
                <a:tab algn="l" pos="3484440"/>
                <a:tab algn="l" pos="4398840"/>
                <a:tab algn="l" pos="5313240"/>
                <a:tab algn="l" pos="6227640"/>
                <a:tab algn="l" pos="7142040"/>
                <a:tab algn="l" pos="8056440"/>
                <a:tab algn="l" pos="8970840"/>
                <a:tab algn="l" pos="9885240"/>
                <a:tab algn="l" pos="1079964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  <a:ea typeface="Lucida Sans Unicode"/>
              </a:rPr>
              <a:t>The government is writing new bills that require all new cars to meet specific environmental qualifications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QUES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How does human activities cause global warming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ANS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People cause global warming by many things.  By littering, driving cars that burn lots of fuel that create lots of green house gasses, and clear cutting forests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35320" cy="143496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QUES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How does global warming impact the planet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ANS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Global warming impacts the planet by increasing the earths temperature a little at a time. Which causes more evaporation and less water for the wor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QUES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How can people slow the rate of global warming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ANS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People can slow the rate of global warming by recycling, driving hybrid cars, and eating and buying more organic thing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oper Black"/>
              </a:rPr>
              <a:t>one result of</a:t>
            </a: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oper Black"/>
              </a:rPr>
              <a:t>global war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The polar icecaps are mel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373560" cy="3373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2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oper Black"/>
              </a:rPr>
              <a:t>What is being done??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People are recycling more and using more efficient items such as… compact florescent bulbs, and water filters instead of plastic bott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irstin behn</dc:creator>
  <dc:description/>
  <dc:language>en-US</dc:language>
  <cp:lastModifiedBy>kirstin behn</cp:lastModifiedBy>
  <cp:revision>0</cp:revision>
  <dc:subject/>
  <dc:title>GLOBAL WARMING</dc:title>
</cp:coreProperties>
</file>